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3080" cy="38322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5720" y="4860720"/>
            <a:ext cx="5202360" cy="46004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1"/>
          </p:nvPr>
        </p:nvSpPr>
        <p:spPr>
          <a:xfrm>
            <a:off x="4022280" y="9723600"/>
            <a:ext cx="3071880" cy="506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2DD3F-DD19-4FAD-81DE-F3C74D230256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"/>
          <p:cNvSpPr/>
          <p:nvPr/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D32103-32E7-4869-B21E-F3C17A41AB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2A0C2-9AC0-4437-A33C-11831FD8B4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F0D712-766D-49B7-B6B0-358F5D2467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4D92A3-39EB-4CE8-B9F2-7F502A84D1C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D83A71-D299-4055-AC3C-E6D571DDEB1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B11E4E-7E45-4772-9785-420A4D6477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C331BF-B101-4C3E-81D9-C42BB33899F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6BCD82-FE8B-4C6D-AEFC-DD91F33587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7ACCE9-08B4-417C-8218-3839D942FA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3952E-ED1F-47D7-8CB1-2625F03E0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85211-49CF-46CD-AE05-25444C39812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DF7E-48DE-4C2C-A065-F10DA662C01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7BA9E-1938-4B47-A51D-6F9F61B91F8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3442E-45FC-4454-891B-933B3C16886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23621-F874-4D20-BF2E-40CED3134C5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2C6A3-EF34-44B2-991E-6066F516A6A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F6633-B0AC-4CF0-A02B-34F65E111F1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E1C9C-D9F9-42F4-B897-35E1CAE50EA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F0090-737C-4966-87A7-0DD639E1D2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724E-3608-418D-B944-D9D36A63A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BC0EC-A0AC-4B72-88A7-FDC92D5979D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B8B5B-9032-4D0B-852D-EF288A844A1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045C2-DCE2-4287-9EF1-3DECCCBC9C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D1585-EB52-475F-9BC9-A46B015990E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D3080-9064-43BF-AF5B-0D2200CD00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57B6C-72F5-4D74-BB64-F334A3AB158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56643-2E9F-4B58-B3EF-461A70AB1BA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009C6-3ACE-404D-B0C7-1C834396E41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A4DE9-91BA-4796-99FF-650074CB466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C1571-AC41-4D04-A072-08478D3C0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943F-A4D7-4C4B-81FF-E1C28C7C472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2775F-94BB-44DA-B083-3A96C8B99D0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C16A4-7326-4242-979F-DEFBAA8A351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7849F-3D80-4EDB-A990-D6470A8545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3D8E-8CB2-4375-817F-1D452F2178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5D8C-01C2-4CE2-9246-98C7E2DE48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9E45-AB09-4401-8B11-D8FA5C68E1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F741-00A3-4A72-A47F-0AC0D5B55F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94FE-1590-4D00-933B-4D33B822F0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47D4-A20A-4CB1-966C-1274138E7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C535-C718-4A32-B87E-75BC25472A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617A-AA8C-4521-9B21-3D319442DD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FB59-F3C9-465D-84A9-FEB751E63E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ABCB-5063-4566-BE14-952FBA631F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15F3-2213-4040-901E-CB601CA3EC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805C5-0438-430B-86FB-BF4F2E086C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96F7E-A324-4A4B-818D-24640CFA30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07121-5F7C-425C-B0B6-6133EE37C1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30B30-5FC1-414D-86D9-2784EB83E8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CA728-3FDB-4BD8-85C5-35C8BB16D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1676F-F444-452B-9CA4-6CAFEF7F4F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D54FB-B2FE-4E9F-9970-FD009E9AF3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914FC-4C64-4FFE-BCE1-EFDAAE0A49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1D636-409E-44FF-9B7A-A1777F46CE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B538C-7D33-4725-BA8A-987D708671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04CFB-EF61-463F-B800-47F1BF3563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1276C-5ACA-49BC-8C8B-9113E4C8DA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F4D2-1A13-4708-9FD4-F5B574B04D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F5AD-213D-4F73-BA88-784C47C5FF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5777-E563-4035-91C7-ECBA5F805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747B-D1DF-4FA0-8BBD-9A00A1630D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18BC-01AC-42B7-A7D9-96FA5B562B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BA71-444F-413F-924F-5119BB3AF6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4587-C365-4268-85A9-861008B687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F618-F87F-4055-9037-BE3ED51086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F9C2-CC6C-4AF7-A9D4-7A1A15DC6C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091F-8B88-440B-A9C1-12D242D172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85BD-FFFA-4172-9CF4-E4C5939FCA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4A99-D340-478A-A50F-E59ED35A15B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5AA5F-6D47-4E7E-95FC-F06271800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53186-9705-4552-BC77-9D528582FC0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E105C-7BDB-447F-880E-D30B6351A66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32538-E3F6-4D4E-AD15-DEA41438C4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47966-5348-4C8C-BBDC-A4C08470D6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58941-CFEF-4AA0-AECF-D306F791E3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496D3-C06C-4B2E-9B50-7D19DA13361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4044A-A3C8-4A41-9DA1-429C4294D9B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A4A4E-9921-40E4-881B-43A9ED1099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3FCD0-A517-4338-A3A0-94C6260ABB1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205EE-E1E2-4C23-B67E-5BE675FC4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1333D-906D-41B5-9EA7-4C68E41081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15BEE8-5247-42A7-AB2E-A612BA1DD15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31D14-CD72-41F4-BE65-C665B97CEBB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CA56E-524B-493D-8D06-ADC26D5BD70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81C86-D2FC-437E-B7D0-1B60446C7CD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BB50D-D8C8-4E28-8FF5-700EB6EAE23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439BA-5A7F-4C82-940E-DD73EB24D19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414F2-1266-4689-82EC-35BBB947779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13F34-28A9-4259-A779-538427A874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7EB17-629C-4CAB-B745-89F86B52F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A001B-8F01-43FE-B112-53F41808373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DD5BC8-1A5E-4ECD-94DA-C48F26C4E4A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799457-24B2-45BF-9705-D34AC95E75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AC6D-038C-4FE4-B16F-F7A1F8A3E7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FC632-FB94-4694-A149-F7AE6D8BD9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19450-41DA-4CFE-BA26-1F472F1D065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AA362-6DDB-4B42-813D-47F3E205F77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FB917-3016-479F-A7D1-663B8D8C948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3996B-C253-4057-8DC9-FA513CF782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7DF6-52FE-4D01-A094-3FFA8FFE1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03C6-6A3E-49F9-A2AE-7E62FD77CB0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A753-4EDB-4CF2-A86E-DA0D6F3211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AEDE-B853-43E6-A3EC-DDBF865816A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F3D06-6ABF-48D8-95B2-AB31C31942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35489-EFB0-443C-88A1-A8C99351793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87F7C-448F-4DF3-86B0-4E2946E7595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8290A-8321-43CA-BF59-4F7CBE82161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CACE1-1677-4BD5-B792-2760E86FA89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DFBE8E-0BD6-4362-A381-D52BFB2C8F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FE80B-8E75-4179-A683-3D1B38EC1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13FC4-23AE-4F60-98D2-BADAF20C32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14473-11F4-4284-A58A-AAF7D452B83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C66EF-315C-465F-8A78-53D2289281E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B42D2-9BC5-433C-B21E-394B285F732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DA981-F092-472C-A2FD-98D71784E91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F0830-926C-44A8-8BCD-255B35B89AD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6CCBB-08A7-4C35-8368-2A7E371770B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5D7000-1008-4E7A-8274-9D5C4138042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642C81-ADE2-41CB-A058-F8E6FEF3F87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84569B-EC83-461C-BD26-64627A1F8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240" y="6591240"/>
            <a:ext cx="555804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480" y="640080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159F8-D083-48BA-BA8E-1DD09743E902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240" y="6591240"/>
            <a:ext cx="555804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480" y="640080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BCAA3-02BA-4782-9AD2-E943BEAA7619}" type="slidenum">
              <a:rPr b="0" lang="it-IT" sz="2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240" y="6591240"/>
            <a:ext cx="555804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480" y="640080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BF2D0-0B49-4050-890D-6D6F183DF2F2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240" y="6591240"/>
            <a:ext cx="555804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480" y="640080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D148D-7C5F-48C0-B368-D8E1B9714A5B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240" y="6591240"/>
            <a:ext cx="555804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480" y="640080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EB3E1-2564-4E0F-A6CE-B5365E26C32E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240" y="6591240"/>
            <a:ext cx="555804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480" y="640080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1776D-0E20-402D-BDC6-3B48B39AFACC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240" y="6591240"/>
            <a:ext cx="555804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480" y="640080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A8770-39A4-4DCB-8CE7-572F01DE5D60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240" y="6591240"/>
            <a:ext cx="555804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480" y="640080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433E3-F872-47D3-B703-15481A6382B3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240" y="6591240"/>
            <a:ext cx="555804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480" y="640080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66B2F-0224-4DB6-9BBF-94B187745913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0" t="0" r="0" b="20611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240" y="6591240"/>
            <a:ext cx="555804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esentazione test ammissione facoltà architettura e design a.a.06707presentazione test di ammissione alle facolt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480" y="640080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it-IT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CEBFA-5170-4A79-BC46-FC15BECFF990}" type="slidenum">
              <a:rPr b="0" lang="it-IT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539640" y="246060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La tutela del design e del designe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ssa Simona Cazzanig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1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120 Polimi + 1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’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97056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7056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504720" y="1295280"/>
            <a:ext cx="835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504720" y="1743120"/>
            <a:ext cx="80629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Troppo spesso 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progetti e prodotti  di design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- anche "notevoli" -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non riescono ad essere protetti dalla legge!</a:t>
            </a:r>
            <a:r>
              <a:rPr b="1" lang="it-IT" sz="1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iò, purtroppo, avviene innanzi tutto perché il designer non sa se quel suo "bel progetto" può essere un valido brevetto per modello di utilità, o un disegno e modello industriale, o un'invenzione, o se può anche essere un marchio di forma, e se può vantare un diritto d'autore al riguardo!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7056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504720" y="1295280"/>
            <a:ext cx="835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>
            <a:off x="504720" y="1793880"/>
            <a:ext cx="85518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Troppo spesso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- giuridicamente parlando -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il designer non sa </a:t>
            </a:r>
            <a:r>
              <a:rPr b="1" i="1" lang="it-IT" sz="1800" spc="-1" strike="noStrike" u="sng">
                <a:solidFill>
                  <a:srgbClr val="ff0000"/>
                </a:solidFill>
                <a:uFillTx/>
                <a:latin typeface="Verdana"/>
              </a:rPr>
              <a:t>cos'è</a:t>
            </a: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 il suo progett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perciò, non ha idea di quali norme - spesso ben diverse tra loro - devono essere tenute in considerazione per sapere che requisiti impone la legge perché un progetto  sia valido, nuovo, dotato di creatività... né sa in che modo, in quali tempi e termini, con quali modalità può registrarlo o brevettarlo e comunque proteggere i suoi diritti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97056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504720" y="1295280"/>
            <a:ext cx="835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"/>
          <p:cNvSpPr/>
          <p:nvPr/>
        </p:nvSpPr>
        <p:spPr>
          <a:xfrm>
            <a:off x="720720" y="2592360"/>
            <a:ext cx="813600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                                   </a:t>
            </a: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Troppo spesso,                                                                  soprattutto i giovani designer,                                    pur avendo acquisito un'ottima preparazione tecnica            e persino una certa esperienz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vengono raggirati con accordi capestro a discapito dei loro diritti e di ciò che i loro progetti possono rappresentare anche sotto il profilo economico e per la loro carriera.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7056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>
            <a:off x="504720" y="1295280"/>
            <a:ext cx="835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"/>
          <p:cNvSpPr/>
          <p:nvPr/>
        </p:nvSpPr>
        <p:spPr>
          <a:xfrm>
            <a:off x="504720" y="1743120"/>
            <a:ext cx="806292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"/>
          <p:cNvSpPr/>
          <p:nvPr/>
        </p:nvSpPr>
        <p:spPr>
          <a:xfrm>
            <a:off x="360360" y="1655640"/>
            <a:ext cx="84232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...QUESTO CORSO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- mira a rendendervi consapevoli dei vari diritti che possono essere rivendicati su un progetto e come gestire le trattative per la conclusione di contratti senza sgradite “sorprese”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- mira a rispondere a tutto ciò che - sugli aspetti legali del vostro lavoro - avreste sempre voluto sapere, ma non avete mai avuto occasione di chiedere ad un avvocato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- mira ad insegnarvi come non "farvi fregare" in un mercato mondiale sempre più concorrenziale e spregiudicato, oltre che in crisi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Grazie!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Francesca Onofri</cp:lastModifiedBy>
  <cp:lastPrinted>2003-05-08T11:08:41Z</cp:lastPrinted>
  <dcterms:modified xsi:type="dcterms:W3CDTF">2014-06-20T08:30:01Z</dcterms:modified>
  <cp:revision>205</cp:revision>
  <dc:subject/>
  <dc:title>Inserire immagine della locandina, possibilmente in trasparenza e aggiungere Facoltà di Architettura Illustrazione prova di ammissione prof. Silvia Piardi (idem Cedolin)</dc:title>
</cp:coreProperties>
</file>